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1.jpeg" ContentType="image/jpeg"/>
  <Override PartName="/ppt/media/image24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3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2355-8D5F-4AD7-AA85-E159D717D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AAF7-AB67-4FCA-A12A-17649A34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FC53-DE85-4A05-9F96-7463EC4CC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86CF-7056-472A-8706-374095428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258E-64A8-4649-8A5B-0B237311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52C0-7DC3-42A8-9BAE-BD529C09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5A6E-8C06-4DC9-8E5E-90C6DE07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20F7-6CB3-42CE-A913-0F72BC3E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D1A4-43F7-416C-B5B6-3EE66B63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E717-802C-4CB0-BF71-41177D0D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CE6D-7148-4B51-A135-FA682327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0D12-1FE2-4E16-A969-57791190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A260-B838-44D1-A961-A4A35BA12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oachmartyscamp.com/stickman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2193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A Day in the Life of a Stick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5181480"/>
            <a:ext cx="50292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Pivot Man 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Art &amp; Technology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3100320"/>
            <a:ext cx="1905120" cy="11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9360" y="533520"/>
            <a:ext cx="9162720" cy="6024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362320" y="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usement 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819520" y="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077400" cy="61722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86000" y="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c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438280" y="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k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362320" y="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i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123920"/>
            <a:ext cx="8915400" cy="5734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666880" y="1522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Bask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360" y="685800"/>
            <a:ext cx="9125280" cy="5691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743200" y="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nowboa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666880" y="152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icopter 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362320" y="152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yd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286000" y="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ying C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362320" y="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ning J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362320" y="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ying C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38280" y="990720"/>
            <a:ext cx="7867440" cy="5114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29528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crob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38280" y="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cer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3760" y="838080"/>
            <a:ext cx="9096480" cy="6019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86000" y="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 from a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058320" cy="6019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90920" y="304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9160" y="685800"/>
            <a:ext cx="8905680" cy="6172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90920" y="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mbing a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57400" y="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mping 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438280" y="228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ding an Eleph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743200" y="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001000" cy="5943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0" y="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 Ski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38280" y="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ounter with a Sq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9360" y="685800"/>
            <a:ext cx="9162720" cy="6172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09680" y="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6:14:09Z</dcterms:created>
  <dc:creator>Patrick J. Mooney</dc:creator>
  <dc:description/>
  <dc:language>en-US</dc:language>
  <cp:lastModifiedBy>Oxley Family</cp:lastModifiedBy>
  <dcterms:modified xsi:type="dcterms:W3CDTF">2010-04-20T14:24:13Z</dcterms:modified>
  <cp:revision>11</cp:revision>
  <dc:subject/>
  <dc:title>Slide 1</dc:title>
</cp:coreProperties>
</file>